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422E3-855C-4A94-98A1-2F9298959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2D47-6997-4FF6-BD8D-193A7B5E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E3B70-56AC-4288-A99D-0F8B95AE7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EA26-0369-4FC3-BA71-AFCB5F7A3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03923-F2BA-4E2C-89C2-C778AD2D1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2D8BA-EFC7-4807-B838-561828168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D8BEE-8229-49C5-BBB8-54100F26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566A6-2C19-4909-88E6-139389635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C26E-36EB-4D9B-A056-238C19D4B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FDCC0-7123-4347-AE67-549000C2C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6644F-C37A-44B3-A8CC-73DF8CBA3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9056-B2B4-48A8-8BF9-215BE5E9F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DFDC5-9EAB-43D8-993B-FCC666B1B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80CFD-FE56-4DC8-9F99-EAF29ABB1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2E000-F03A-4E25-B25C-38806FD34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E273E-53E6-4CA0-85AF-F440C479A4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CD3CA-8F24-47D4-A944-0FCDF76BB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DF6C1-5DB7-412E-8E85-A5FC744D8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9A329-819F-44D0-88C7-7DEAB4377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6342A-E8F6-4ACA-A696-6717DD8D6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475-4283-4FEF-B6E1-B4653B703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1080-4C47-49F1-91F7-BABE0C3E4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0A0DF-8C01-4BFD-B99F-BCDC29BD4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20C2-FCB0-4DD7-AA4D-72C71FBC1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21EAA-12C6-411C-8F1D-2A163CA1970D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9D848-F199-4290-8622-5A0283F3DB7F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6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교육 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탐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양적연구와 질적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실험연구와 준실험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조사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사례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사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철학적 연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연구의 타당도•신뢰도•일반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타당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독립변인과 종속변인의 인과관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례 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구성 타당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화기술연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람과 사건에 대한 기술의 정확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신뢰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도구와 결과의 신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모집단과 표집 집단의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의 대상자에 대한 집단의 이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 연구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결과에서 과정 중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적 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 중심의 차별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시간의 경과에 따른 변화 양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반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임용 정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양성과정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목적을 음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권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주요 동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교육과정의 책무성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프로그램의 표준 개발과 평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장 교사와의 협력제휴체제 구축 및 현장실습의 강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자 중심의 전문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탐구와 반성적 사고의 교사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전문성 수준의 평가 방법으로 포트폴리오 활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모형개발 및 대안적 모형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양성의 다양한 모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성공적 교사교육프로그램의 특성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성공적 교사교육프로그램의 특성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은 교수의 공통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과정과 임상의 실제적 평가의 표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발달에 근거한 교육과정의 실제적 맥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주 이상의 임상경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과 대학의 지식과 경험의 공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례연구방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연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행성과의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트폴리오 평가 등의 광범위한 활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새로운 표준 개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명문 교사양성기관의 육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교육의 구조적 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소 표준에서 최선의 표준으로 전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리더십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훌륭한 교사교육의 명확한 기준과 방향 설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변화를 위한 유인체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교육의 정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내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의 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변화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Doyle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교사교육의 다섯 가지 패러다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용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임교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능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혁신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반성적 전문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판적 관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육 교사교육의 본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’과 ‘결과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과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과정과 교직수행의 상관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수의 강의 수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교사자격증 제도와 교육과정 관련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결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장애아동의 교육권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수행능력 향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수석교사 또는 전문교사로부터 수습 수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교사 양성의 문제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수 편의 위주의 교육과정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간 편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자격증제도와 전문성 제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재교육 교육과정 운영의 필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 경험이 우선되는 강사 배정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과정의 재구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현장의 요구도 수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적 탐구를 위한 문제 의식 부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양 교직 전공의 틀에 대한 재검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향후 현장에 적용 가능한 교양 교직 전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로서의 보람과 사명을 확인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능력 표준 중심의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발달과 교사교육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훈련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개발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갱신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발달과 교사로서의 능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교육의 방법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자 중심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구성주의 교수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도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상황학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지적 유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목표 중심 시나리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문제 중심 학습 모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40:34Z</dcterms:created>
  <dc:creator>XPuser</dc:creator>
  <dc:description/>
  <dc:language>en-US</dc:language>
  <cp:lastModifiedBy>XPuser</cp:lastModifiedBy>
  <dcterms:modified xsi:type="dcterms:W3CDTF">2008-11-03T02:53:45Z</dcterms:modified>
  <cp:revision>5</cp:revision>
  <dc:subject/>
  <dc:title>제 6장 교사교육 </dc:title>
</cp:coreProperties>
</file>